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32868"/>
        <c:axId val="36691294"/>
      </c:barChart>
      <c:catAx>
        <c:axId val="88132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1294"/>
        <c:crosses val="autoZero"/>
        <c:auto val="1"/>
        <c:lblAlgn val="ctr"/>
        <c:lblOffset val="100"/>
        <c:noMultiLvlLbl val="0"/>
      </c:catAx>
      <c:valAx>
        <c:axId val="36691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32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739-8B14-4FB1-954A-6985A2D3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81B-EBF8-4375-BF04-8F7AD31B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37F-8CD1-4E93-9CA6-9504A7CF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E36-720E-4BF1-B2A4-8DF4E2E6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E1D-5683-486B-BCC6-77F709CB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1C5-B9ED-4AA3-8193-FFCDF4A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EEE-CD3A-43C8-8099-6FE5317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432-6DF3-4039-AF90-6A2C1FE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FF0-BAE1-46E3-B114-09AB047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1F5-A697-416C-BCFE-71860AF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C65-66A7-4CDE-B845-7BC74C9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690-511F-4208-939B-EE18755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389DF-C809-4E40-A0DA-421F028A4C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