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6T11:21:25Z</dcterms:created>
  <dc:creator>mgalat25</dc:creator>
  <dc:description/>
  <dc:language>en-US</dc:language>
  <cp:lastModifiedBy>mgalat25</cp:lastModifiedBy>
  <dcterms:modified xsi:type="dcterms:W3CDTF">2013-04-27T12:16:36Z</dcterms:modified>
  <cp:revision>5</cp:revision>
  <dc:subject/>
  <dc:title>PROGETTO ACCESSORI</dc:title>
</cp:coreProperties>
</file>